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B96-ECF2-4CCF-B184-394D7F999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B7B-590E-4BE6-8D7B-75A0636F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DCA-1D89-4343-8216-A0B11AC4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B0C-7F78-4803-B791-67BFBC13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8168-0272-4DC1-BA20-4AF3EB81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CC9-1439-411F-9F3F-3275BD6A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05B-2988-45E1-810F-3B0955AE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85AF-B355-4FE0-B652-298E53BD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AC3-D54D-478E-9EFA-D729D799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BBC-3FBA-4630-AE74-B9F7A190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09F0-BD50-4005-B064-B483192A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3CE7-8003-4118-9E9A-19AAFA85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AF1B-3753-4260-BC88-CF22564A3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17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1371600" cy="100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666520" y="2286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@ ISMB &amp; BOSC 200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8222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http://gmod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119240"/>
          <a:ext cx="9144000" cy="5745240"/>
        </p:xfrm>
        <a:graphic>
          <a:graphicData uri="http://schemas.openxmlformats.org/drawingml/2006/table">
            <a:tbl>
              <a:tblPr/>
              <a:tblGrid>
                <a:gridCol w="3809880"/>
                <a:gridCol w="457200"/>
                <a:gridCol w="4419720"/>
                <a:gridCol w="457200"/>
              </a:tblGrid>
              <a:tr h="284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ine - Open source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ehouse and Query Interfac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 Smith, Fri 11:10-11: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gatis: A Web-based Bioinformati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 Management and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ve Development  Syste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ua Orvis, Sat 9:30-9: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llo: a Sequence Annotation Ed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 Lee, Sat 11:50-1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RACE - BioMart Developments and Fu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ed Haider, Sat 1:50-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493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e0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- Enabling Data Integ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ed Haider, Sun 2:15-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mine - Open source Data Warehouse and Query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chard Smith, Mon 12:15-1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hway Tools Software: Regulatory Networks and Recent Development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ter Karp, Mon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: Enabling Complex Compu-tational Analysis For Experimental Biolog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mes Taylor, Tue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GALAXY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on Nekrutenko, Tue 3:45-4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6a5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f7a6c"/>
                    </a:solidFill>
                  </a:tcPr>
                </a:tc>
              </a:tr>
              <a:tr h="289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Genome Grid for Finding new Bug G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omplete System for Community Genome  Anno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 for reproducible analyses of next-generation sequencing data, Anton Nekruten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genomic Analysis with Galaxy: Windshield Genomics and Bey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– Enabling Data Inte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OD: Managing genomic data from emerging model organis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e99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6c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dimensional annotation of the Escherichia coli K-12 gen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wards Data Analysis of Genome Wide Influenza RNAi Sc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informatics to support the sequencing of Brassica rapa chromosomes A2 and A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co-variation among rates of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mut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 for database interoperability: a 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he CASIMIR consort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8c1a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 rot="5400000">
            <a:off x="2583000" y="2369520"/>
            <a:ext cx="2833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SC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7480080" y="5244840"/>
            <a:ext cx="287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using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2627640" y="5174640"/>
            <a:ext cx="284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about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96080" y="54000"/>
            <a:ext cx="1371600" cy="981000"/>
          </a:xfrm>
          <a:prstGeom prst="rect">
            <a:avLst/>
          </a:prstGeom>
          <a:ln w="8892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 rot="5400000">
            <a:off x="7657920" y="22478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B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08-07-17T03:07:36Z</cp:lastPrinted>
  <dcterms:modified xsi:type="dcterms:W3CDTF">2008-07-17T03:07:39Z</dcterms:modified>
  <cp:revision>31</cp:revision>
  <dc:subject/>
  <dc:title>PowerPoint Presentation</dc:title>
</cp:coreProperties>
</file>